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ct" ContentType="image/x-pict"/>
  <Override PartName="/ppt/media/image15.jpeg" ContentType="image/jpeg"/>
  <Override PartName="/ppt/media/image14.pct" ContentType="image/x-pict"/>
  <Override PartName="/ppt/media/image9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11.pct" ContentType="image/x-pict"/>
  <Override PartName="/ppt/media/image12.pct" ContentType="image/x-pict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219-A37B-4013-A845-29387079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EC8-5E0D-4179-855D-BB6F949C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F0A-7E02-4055-AB4D-F790DA22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051-0849-4D79-95C4-CBBCDFDF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8285-2838-43FE-9DF6-28AE86DF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3CC4-CFAF-4EFB-80D9-34190F84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7342-9E64-4ECA-8169-E3740AF1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856-ED6F-42C9-B87D-877931E1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CB66-4DE6-4A55-8F5E-5C8CCA5E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EE44-EDA9-4E15-A4A8-C5E62443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469F-51F3-4CE6-B176-856551C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6EF-BC06-4BED-ACEC-E94C387D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151-00DB-4E1D-AEB1-71D15C0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74BC-19A6-4EEC-96E7-1EAD30F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CBF3-EB69-42A0-B9B3-1B1EBE98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31FA-FF90-433A-B1B8-82A5512E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CF2-28CE-4063-8182-E62998FD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7DAB-AEBE-43BC-9999-76BF2CC7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D0FD-4C0A-4A26-AAD9-D0AEEC92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9944-329E-4905-9809-55B50216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C90D-1DF4-4970-8DB5-53A141A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CC22-5F96-4310-87F6-1AB309B2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F96-8ADC-40B2-97CC-8FAAD26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752BD-36E4-4F84-BDC0-3707E040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5F62-C939-49CD-A85E-51FC92A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BABA-8F62-445F-9A57-648FC7F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4C6D-0442-414E-9FEB-200EB05C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0B73-C727-4C36-97FB-B93E128E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6190-0F8D-4214-94D9-19005AC8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F995-5589-4DA9-A05A-DA3B3084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9F2-A25F-4330-8D15-CD56935D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AB5-82E6-416D-8942-E00C840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AB2-065D-4CB3-925B-30C6F45F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19F-B275-4E22-9986-81EC2930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B11-E960-4C75-BBA6-BC6F760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1E2-63ED-485E-AC62-274BB9ED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3BF6-B324-4ACE-A9E1-3116A699C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ECE5-8165-4934-B713-973BC7B1D8E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e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496a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7B3-DEFB-4334-91EB-9C1007AE542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Embedded%20Sound%203" TargetMode="External"/><Relationship Id="rId2" Type="http://schemas.microsoft.com/office/2007/relationships/media" Target="file:///tmp/home/.config/libreoffice/4/user/gallery/Embedded%20Sound%20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Sand"/>
              </a:rPr>
              <a:t>Mystery of the</a:t>
            </a:r>
            <a:endParaRPr b="1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Sand"/>
              </a:rPr>
              <a:t>Matching Marks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895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62600" cy="1943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0080" y="4267080"/>
            <a:ext cx="3098880" cy="19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C82-4879-42BA-AB0E-9ADDBD198A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7432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3162600" cy="1943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309852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6C7-BAA2-471F-BFF8-CC6D40DA24A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RIGHT! It’s a bullet shot from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gun C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So what does that tell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3162240" cy="19432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429000" y="4191120"/>
            <a:ext cx="309888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FA1-73C2-4E05-A1B2-14BE9D6416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YOU’VE GOT IT!  The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Crime Scene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bullet and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bullet C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came from th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SAME GUN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0440" y="19051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92880" y="5867280"/>
            <a:ext cx="94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We could say the bullets had a “</a:t>
            </a:r>
            <a:r>
              <a:rPr b="0" lang="en-US" sz="3200" spc="-1" strike="noStrike">
                <a:solidFill>
                  <a:srgbClr val="ff0000"/>
                </a:solidFill>
                <a:latin typeface="Chalkboard"/>
              </a:rPr>
              <a:t>Common Origi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162240" cy="1942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309888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F2E-8944-456D-ABEF-576C9B5669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Many studies have told us that when any two item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ith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COMPLEX PATTERN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MATCH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EACH OTHER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perfectly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e can be confid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at they had 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COMMON ORIGIN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KEEP THIS IN MIND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en we find oth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COMPLEX PATTERNS that MATCH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at does this tell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They had a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COMMON ORIGIN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2440" y="4724280"/>
            <a:ext cx="592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is is our theme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Matching Complex Patterns =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COMMON 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4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Right, it’s a HUMAN KARY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47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 Human Karyotyp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has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photo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of all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atched pairs of human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from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one cell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tained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o show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banding pattern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and arranged from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hor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with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centromer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near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Here are our numbers 6-9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39152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On the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next slid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 you will se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another kind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of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human karyotyp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It ha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halkboard"/>
              </a:rPr>
              <a:t>diagram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chromosome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 with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only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one member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 of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each pair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clearly showing their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banding patterns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4D1F-9007-4D8E-A96E-18363F440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451560"/>
            <a:ext cx="152280" cy="406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371600" y="304920"/>
            <a:ext cx="64008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79484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nd on the next slid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you will see a simila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halkboard"/>
              </a:rPr>
              <a:t>diagrammatic karyotype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but this is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 </a:t>
            </a:r>
            <a:r>
              <a:rPr b="1" lang="en-US" sz="4400" spc="-1" strike="noStrike">
                <a:solidFill>
                  <a:srgbClr val="996633"/>
                </a:solidFill>
                <a:latin typeface="Chalkboard"/>
              </a:rPr>
              <a:t>NON-HUMAN SPECIES</a:t>
            </a:r>
            <a:r>
              <a:rPr b="0" lang="en-US" sz="4400" spc="-1" strike="noStrike">
                <a:solidFill>
                  <a:srgbClr val="996633"/>
                </a:solidFill>
                <a:latin typeface="Chalkboard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165240"/>
            <a:ext cx="86803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0880" y="380880"/>
            <a:ext cx="838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NEXT, we wll se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both karyotypes togethe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howing the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atching chromosom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side by sid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each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huma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chromos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s on the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each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NON-huma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chromos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s on the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4876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s you COMPARE the CHROMOSOMES,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side-by-side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what is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MOST surpri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DBC-6634-4EB2-BB2E-B3D6B8459D6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28600" y="73080"/>
            <a:ext cx="6626160" cy="6784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433680" y="152280"/>
            <a:ext cx="54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halkboard"/>
              </a:rPr>
              <a:t>What is most surpri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8D8-F3FD-49FC-9B46-F42A155D5D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Did you notice how very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ey are?  Here’s a closer look at the first se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5614920"/>
            <a:ext cx="881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Any 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identical</a:t>
            </a: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 ones?  What did we say about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halkboard"/>
              </a:rPr>
              <a:t>items with </a:t>
            </a:r>
            <a:r>
              <a:rPr b="1" lang="en-US" sz="3200" spc="-1" strike="noStrike">
                <a:solidFill>
                  <a:srgbClr val="333399"/>
                </a:solidFill>
                <a:latin typeface="Chalkboard"/>
              </a:rPr>
              <a:t>IDENTICAL COMPLEX PATTER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42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CD4-008A-4E7C-8079-77970F62E47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halkboard"/>
              </a:rPr>
              <a:t>RIGHT!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Identical Patterns = </a:t>
            </a: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COMMON 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4760" y="1981080"/>
            <a:ext cx="77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How would this apply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to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two different SPECI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with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IDENTICAL banding pattern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on their </a:t>
            </a:r>
            <a:r>
              <a:rPr b="1" lang="en-US" sz="3600" spc="-1" strike="noStrike">
                <a:solidFill>
                  <a:srgbClr val="333399"/>
                </a:solidFill>
                <a:latin typeface="Chalkboard"/>
              </a:rPr>
              <a:t>CHROMOSOMES</a:t>
            </a:r>
            <a:r>
              <a:rPr b="0" lang="en-US" sz="3600" spc="-1" strike="noStrike">
                <a:solidFill>
                  <a:srgbClr val="333399"/>
                </a:solidFill>
                <a:latin typeface="Chalkboar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80" y="4471920"/>
            <a:ext cx="854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RIGHT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They MUST have a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Common Origin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, 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 a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COMMON ANCESTOR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E6B-8574-40D5-85C2-9191AFE47B1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Time for a Revelation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3429000"/>
            <a:ext cx="7925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e clear </a:t>
            </a:r>
            <a:r>
              <a:rPr b="0" lang="en-US" sz="4000" spc="-1" strike="noStrike">
                <a:solidFill>
                  <a:srgbClr val="800080"/>
                </a:solidFill>
                <a:latin typeface="Chalkboard"/>
              </a:rPr>
              <a:t>chromosome evidenc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of </a:t>
            </a:r>
            <a:r>
              <a:rPr b="1" lang="en-US" sz="4000" spc="-1" strike="noStrike">
                <a:solidFill>
                  <a:srgbClr val="800080"/>
                </a:solidFill>
                <a:latin typeface="Chalkboard"/>
              </a:rPr>
              <a:t>identical banding pattern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ells us that </a:t>
            </a:r>
            <a:r>
              <a:rPr b="1" lang="en-US" sz="4000" spc="-1" strike="noStrike">
                <a:solidFill>
                  <a:srgbClr val="009999"/>
                </a:solidFill>
                <a:latin typeface="Chalkboard"/>
              </a:rPr>
              <a:t>human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and</a:t>
            </a:r>
            <a:br>
              <a:rPr sz="4000"/>
            </a:br>
            <a:r>
              <a:rPr b="1" lang="en-US" sz="4000" spc="-1" strike="noStrike">
                <a:solidFill>
                  <a:srgbClr val="996633"/>
                </a:solidFill>
                <a:latin typeface="Chalkboard"/>
              </a:rPr>
              <a:t>chimpanzee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must have had 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905120"/>
            <a:ext cx="609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The 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non-human species</a:t>
            </a: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 i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halkboard"/>
              </a:rPr>
              <a:t>the </a:t>
            </a:r>
            <a:r>
              <a:rPr b="1" lang="en-US" sz="4000" spc="-1" strike="noStrike">
                <a:solidFill>
                  <a:srgbClr val="996633"/>
                </a:solidFill>
                <a:latin typeface="Chalkboard"/>
              </a:rPr>
              <a:t>CHIMPANZ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828800" cy="158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F07-5E23-4B37-8975-A6F31EF280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0" y="12952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omewhere, in our distant pas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there was an 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ape-like specie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t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gave rise to two lines of ancestry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One branch led to </a:t>
            </a:r>
            <a:r>
              <a:rPr b="1" lang="en-US" sz="3200" spc="-1" strike="noStrike">
                <a:solidFill>
                  <a:srgbClr val="000000"/>
                </a:solidFill>
                <a:latin typeface="Chalkboard"/>
              </a:rPr>
              <a:t>modern </a:t>
            </a: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HIMP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, the other branch led to </a:t>
            </a: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HUMAN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halkboard"/>
              </a:rPr>
              <a:t>COMMON ANCESTOR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48006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DNA analysis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and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fossils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tell us that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this </a:t>
            </a:r>
            <a:r>
              <a:rPr b="1" lang="en-US" sz="3200" spc="-1" strike="noStrike">
                <a:solidFill>
                  <a:srgbClr val="800080"/>
                </a:solidFill>
                <a:latin typeface="Chalkboard"/>
              </a:rPr>
              <a:t>split</a:t>
            </a: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 was around 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6-7 million years ago (6-7 mya</a:t>
            </a:r>
            <a:r>
              <a:rPr b="0" lang="en-US" sz="2800" spc="-1" strike="noStrike">
                <a:solidFill>
                  <a:srgbClr val="800080"/>
                </a:solidFill>
                <a:latin typeface="Chalkboar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23720" y="3962520"/>
            <a:ext cx="43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"/>
              </a:rPr>
              <a:t>&lt;---</a:t>
            </a:r>
            <a:r>
              <a:rPr b="1" lang="en-US" sz="3200" spc="-1" strike="noStrike">
                <a:solidFill>
                  <a:srgbClr val="ff0000"/>
                </a:solidFill>
                <a:latin typeface="Chalkboard"/>
              </a:rPr>
              <a:t>Common Anc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066680" y="2133720"/>
            <a:ext cx="1066680" cy="3504600"/>
            <a:chOff x="1066680" y="2133720"/>
            <a:chExt cx="1066680" cy="3504600"/>
          </a:xfrm>
        </p:grpSpPr>
        <p:sp>
          <p:nvSpPr>
            <p:cNvPr id="347" name=""/>
            <p:cNvSpPr/>
            <p:nvPr/>
          </p:nvSpPr>
          <p:spPr>
            <a:xfrm>
              <a:off x="1066680" y="2133720"/>
              <a:ext cx="479880" cy="190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546560" y="2148840"/>
              <a:ext cx="586800" cy="18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46560" y="4036680"/>
              <a:ext cx="17640" cy="16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6560" y="4016880"/>
              <a:ext cx="0" cy="555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10160" y="150192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halkboard"/>
              </a:rPr>
              <a:t>Chi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73800" y="15238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halkboard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14760" y="39625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halkboard"/>
              </a:rPr>
              <a:t>6 m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09480" y="2590560"/>
            <a:ext cx="0" cy="144756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15480" y="20574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halkboard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7CF-60BC-4E9D-9F6D-171578ECC2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at’s pretty strong stuff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3440" y="1447920"/>
            <a:ext cx="702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Chalkboard"/>
              </a:rPr>
              <a:t>And seems to conflict with </a:t>
            </a:r>
            <a:br>
              <a:rPr sz="4000"/>
            </a:br>
            <a:r>
              <a:rPr b="1" lang="en-US" sz="4000" spc="-1" strike="noStrike">
                <a:solidFill>
                  <a:srgbClr val="cc66ff"/>
                </a:solidFill>
                <a:latin typeface="Chalkboard"/>
              </a:rPr>
              <a:t>Traditional View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21600" y="3124080"/>
            <a:ext cx="744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halkboard"/>
              </a:rPr>
              <a:t>Is there any other evidence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Chalkboard"/>
              </a:rPr>
              <a:t> that supports this conclus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4080" y="4952880"/>
            <a:ext cx="845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Chalkboard"/>
              </a:rPr>
              <a:t>Let’s take another look at those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Chalkboard"/>
              </a:rPr>
              <a:t>chromosomes… [next set of slide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1DC-8C82-4DE4-8373-03C3E63E29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halkboard Bold"/>
              </a:rPr>
              <a:t>DO I HAVE YOUR ATTEN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For some reason, a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GUNSHOT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      seems to suggest a </a:t>
            </a:r>
            <a:r>
              <a:rPr b="1" lang="en-US" sz="3200" spc="-1" strike="noStrike">
                <a:solidFill>
                  <a:srgbClr val="ff0000"/>
                </a:solidFill>
                <a:latin typeface="Sand"/>
              </a:rPr>
              <a:t>CRIME SCENE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…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23600" y="3886200"/>
            <a:ext cx="40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ith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ULLET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32880" y="5181480"/>
            <a:ext cx="594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nd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BULLET MARKS</a:t>
            </a: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12960" y="5440320"/>
            <a:ext cx="5959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34800" y="5234040"/>
            <a:ext cx="671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are these marks us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o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solve crimes</a:t>
            </a:r>
            <a:r>
              <a:rPr b="0" lang="en-US" sz="4000" spc="-1" strike="noStrike">
                <a:solidFill>
                  <a:srgbClr val="ff0000"/>
                </a:solidFill>
                <a:latin typeface="Chalkboard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365760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248520" y="3962520"/>
            <a:ext cx="12952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629400" y="396252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0FF-9F49-49D1-B69C-DE6A791977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73120" y="930240"/>
            <a:ext cx="80182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RIGHT!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They are used to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COMPARE</a:t>
            </a:r>
            <a:r>
              <a:rPr b="1" lang="en-US" sz="40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bullet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found at a </a:t>
            </a:r>
            <a:r>
              <a:rPr b="1" lang="en-US" sz="4000" spc="-1" strike="noStrike">
                <a:solidFill>
                  <a:srgbClr val="ff0000"/>
                </a:solidFill>
                <a:latin typeface="Chalkboard"/>
              </a:rPr>
              <a:t>crime scene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with 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bullets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that wer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fired</a:t>
            </a: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 from </a:t>
            </a:r>
            <a:r>
              <a:rPr b="1" lang="en-US" sz="4000" spc="-1" strike="noStrike">
                <a:solidFill>
                  <a:srgbClr val="333399"/>
                </a:solidFill>
                <a:latin typeface="Chalkboard"/>
              </a:rPr>
              <a:t>suspect gu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1B4-3EDC-439C-B339-1E82DB25C6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Here are the marks from a crime scene bulle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16224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90E-6A73-4D9B-AA4F-1E299141B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and here are the marks from bullets fired from four </a:t>
            </a:r>
            <a:r>
              <a:rPr b="1" lang="en-US" sz="3600" spc="-1" strike="noStrike">
                <a:solidFill>
                  <a:srgbClr val="000000"/>
                </a:solidFill>
                <a:latin typeface="Chalkboard"/>
              </a:rPr>
              <a:t>possible suspect guns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4872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246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312444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098880" cy="1955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3098880" cy="1930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800600" y="4495680"/>
            <a:ext cx="3098880" cy="19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853-7790-47E6-BD7E-600D66B0DA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3162240" cy="194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312444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93D-58CD-4C57-AE00-83478A836F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668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80440" y="22096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rime Sc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ich bullet match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the crime scene bull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162600" cy="1943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048120" y="4267080"/>
            <a:ext cx="3098520" cy="19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2A3-9BAB-4A53-A726-CB5932F91B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4:43Z</dcterms:created>
  <dc:creator>Larry Flammer</dc:creator>
  <dc:description/>
  <dc:language>en-US</dc:language>
  <cp:lastModifiedBy>Larry Flammer</cp:lastModifiedBy>
  <dcterms:modified xsi:type="dcterms:W3CDTF">2007-11-01T23:22:59Z</dcterms:modified>
  <cp:revision>8</cp:revision>
  <dc:subject/>
  <dc:title>PowerPoint Presentation</dc:title>
</cp:coreProperties>
</file>